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52360" y="684000"/>
            <a:ext cx="4553280" cy="3414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25760"/>
            <a:ext cx="5486400" cy="40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50080"/>
            <a:ext cx="2971800" cy="45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50080"/>
            <a:ext cx="29718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0906-7EEA-4ABE-9DC1-B4D027F0D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815D-7DF8-4BD2-B7DE-15A2FC8D1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152360" y="684360"/>
            <a:ext cx="4553280" cy="3414600"/>
          </a:xfrm>
          <a:prstGeom prst="rect">
            <a:avLst/>
          </a:prstGeom>
          <a:ln w="0">
            <a:noFill/>
          </a:ln>
        </p:spPr>
      </p:sp>
      <p:sp>
        <p:nvSpPr>
          <p:cNvPr id="59" name="PlaceHolder 2"/>
          <p:cNvSpPr>
            <a:spLocks noGrp="1"/>
          </p:cNvSpPr>
          <p:nvPr>
            <p:ph type="body"/>
          </p:nvPr>
        </p:nvSpPr>
        <p:spPr>
          <a:xfrm>
            <a:off x="685800" y="4325760"/>
            <a:ext cx="5486400" cy="409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E08FD-C3ED-4FF9-B22B-4013EBEDE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5D25-CCF2-4679-B849-A382FFB29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85CEF-8AFE-4790-9201-D6FE5C56A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3D287-5D28-48DD-AD74-D309F1642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B1AE5-59AE-434E-B6FD-75D2492B1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24F6A-EA0E-42B3-AB67-AA46A12F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105D0-F420-494E-A9FA-C5E3B65AD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BC5EA-3CD0-4A29-9E1C-BFF785B63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5B34A-9C7B-4352-A8EB-483E29E92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E1CC-7F7C-4104-B462-73CAC33B1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F5043-0A49-47F2-A33B-7BA0497AA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E3AA-C4D4-4737-93E9-5B20BF241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FECE-8CF0-4C85-9298-3A9EC26D0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45720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3"/>
          <p:cNvSpPr/>
          <p:nvPr/>
        </p:nvSpPr>
        <p:spPr>
          <a:xfrm>
            <a:off x="22860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5"/>
          <p:cNvSpPr/>
          <p:nvPr/>
        </p:nvSpPr>
        <p:spPr>
          <a:xfrm>
            <a:off x="68580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Text Box 9"/>
          <p:cNvSpPr/>
          <p:nvPr/>
        </p:nvSpPr>
        <p:spPr>
          <a:xfrm>
            <a:off x="0" y="0"/>
            <a:ext cx="228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man Book Club Points to Ponder</a:t>
            </a:r>
            <a:endParaRPr b="0" lang="en-US" sz="1600" spc="-1" strike="noStrike">
              <a:solidFill>
                <a:srgbClr val="000000"/>
              </a:solidFill>
              <a:latin typeface="Times New Roman"/>
            </a:endParaRPr>
          </a:p>
        </p:txBody>
      </p:sp>
      <p:sp>
        <p:nvSpPr>
          <p:cNvPr id="52" name="Text Box 10"/>
          <p:cNvSpPr/>
          <p:nvPr/>
        </p:nvSpPr>
        <p:spPr>
          <a:xfrm>
            <a:off x="0" y="1447920"/>
            <a:ext cx="2209680" cy="547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wilight </a:t>
            </a:r>
            <a:r>
              <a:rPr b="0" lang="en-US" sz="1200" spc="-1" strike="noStrike">
                <a:solidFill>
                  <a:srgbClr val="000000"/>
                </a:solidFill>
                <a:latin typeface="Times New Roman"/>
              </a:rPr>
              <a:t>By Stephene Meyer</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ints to Ponder</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e fact that Edward can’t read Bella’s thoughts important? </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la faints at the sight of blood. If she were to become a vampire, how might this serve as a hindrance? How might it be an asset ?</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la is obsessed with Edward, so much that life has little meaning for her without him. Do you think this is right or wrong? Why or why not?</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threatening factors facing Bella  and are there ways to avoid them?</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Edward has tasted Bella’s blood, do you think it will be harder to resist Bella? Will the fact that he is able to control himself make Bella want to be changed into a vampire? Is it fair to ask that of him?  Is it fair of him to</a:t>
            </a:r>
            <a:r>
              <a:rPr b="0" lang="en-US" sz="1000" spc="-1" strike="noStrike">
                <a:solidFill>
                  <a:srgbClr val="000000"/>
                </a:solidFill>
                <a:latin typeface="Times New Roman"/>
              </a:rPr>
              <a:t> refu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 name="Text Box 31"/>
          <p:cNvSpPr/>
          <p:nvPr/>
        </p:nvSpPr>
        <p:spPr>
          <a:xfrm>
            <a:off x="4724280" y="272412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35"/>
          <p:cNvSpPr/>
          <p:nvPr/>
        </p:nvSpPr>
        <p:spPr>
          <a:xfrm>
            <a:off x="7010280" y="272412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51" descr="MCSO02021_0000[1]"/>
          <p:cNvPicPr/>
          <p:nvPr/>
        </p:nvPicPr>
        <p:blipFill>
          <a:blip r:embed="rId1"/>
          <a:stretch/>
        </p:blipFill>
        <p:spPr>
          <a:xfrm>
            <a:off x="609480" y="533520"/>
            <a:ext cx="1067040" cy="984240"/>
          </a:xfrm>
          <a:prstGeom prst="rect">
            <a:avLst/>
          </a:prstGeom>
          <a:ln w="0">
            <a:noFill/>
          </a:ln>
        </p:spPr>
      </p:pic>
      <p:sp>
        <p:nvSpPr>
          <p:cNvPr id="56" name="Rectangle 55"/>
          <p:cNvSpPr/>
          <p:nvPr/>
        </p:nvSpPr>
        <p:spPr>
          <a:xfrm>
            <a:off x="2209680" y="990720"/>
            <a:ext cx="2286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9:37:40Z</dcterms:created>
  <dc:creator>KISD</dc:creator>
  <dc:description/>
  <dc:language>en-US</dc:language>
  <cp:lastModifiedBy>AISD Employee</cp:lastModifiedBy>
  <dcterms:modified xsi:type="dcterms:W3CDTF">2010-06-01T19:52:05Z</dcterms:modified>
  <cp:revision>13</cp:revision>
  <dc:subject/>
  <dc:title>PowerPoint Presentation</dc:title>
</cp:coreProperties>
</file>